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635D-F48A-4C14-BC14-3250AE976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0EE2-D7D1-4F12-8291-8F11AA407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56A5-8253-4CD2-A9AB-167EB96F1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6831-2702-4EB6-9E0F-08C6CCE82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F544-38EB-4C0F-8CDB-D9C9EE9A3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E80-9E7B-43D2-890A-E4DA14FE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80C-E3D6-4CB7-8043-00D1B75F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7D25-95BD-4233-9BD2-A8295430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D23-BD00-4BCF-B651-3E31ED12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9F6-F427-4B24-9D85-2F6CB64A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9EF-DA00-400D-B1B3-39AACFE3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893-E276-4981-B844-639ECDFE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89B-7522-4CBE-A8EC-0C754199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E86-7E12-46AF-91CC-BFE1788E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836-483C-46F9-AE03-601322C9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592-C61C-4685-862A-72945B1F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6D8-AA3A-487B-9552-B7427C3C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CC4C-BB01-4A73-8365-AF144521C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51560" y="201600"/>
            <a:ext cx="32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ster Eg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important outcomes for your graduates?  Pick 1 or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earning Targ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know that graduates have achieved these outcomes?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vid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give them a chance to demonstrate their achievement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Assess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51560" y="201600"/>
            <a:ext cx="32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ster Eg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286360" y="5791320"/>
            <a:ext cx="43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reate a scoring gu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151560" y="201600"/>
            <a:ext cx="32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ent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rcRect l="3544" t="1352" r="5261" b="2702"/>
          <a:stretch/>
        </p:blipFill>
        <p:spPr>
          <a:xfrm>
            <a:off x="380880" y="1295280"/>
            <a:ext cx="3962520" cy="541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828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"/>
          <p:cNvPicPr/>
          <p:nvPr/>
        </p:nvPicPr>
        <p:blipFill>
          <a:blip r:embed="rId1"/>
          <a:srcRect l="3544" t="1352" r="5261" b="2702"/>
          <a:stretch/>
        </p:blipFill>
        <p:spPr>
          <a:xfrm>
            <a:off x="380880" y="1295280"/>
            <a:ext cx="3962520" cy="5410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82896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152280" y="2016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entine Creation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solidFill>
            <a:srgbClr val="cccc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important outcomes for your graduates?  Pick 1 or 2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know that graduates have achieved these outcomes?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give them a chance to demonstrate their achievement?  (Assessm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differentiate achievement and give feedback? (Scoring Guid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90920" y="5029200"/>
          <a:ext cx="6095880" cy="16509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JackOLante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52280" y="201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mpkin Carving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JackOLante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important outcomes for your graduates?  Pick 1 or 2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know that graduates have achieved these outcomes?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give them a chance to demonstrate their achievement?  (Assessm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differentiate achievement and give feedback? (Scoring Guid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mpkin Carving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90920" y="5029200"/>
          <a:ext cx="6095880" cy="16509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15:51:48Z</dcterms:created>
  <dc:creator>Mark Roddy</dc:creator>
  <dc:description/>
  <dc:language>en-US</dc:language>
  <cp:lastModifiedBy>Information Technology</cp:lastModifiedBy>
  <dcterms:modified xsi:type="dcterms:W3CDTF">2013-09-30T19:03:52Z</dcterms:modified>
  <cp:revision>12</cp:revision>
  <dc:subject/>
  <dc:title>PowerPoint Presentation</dc:title>
</cp:coreProperties>
</file>